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ED17-13A1-4A48-A42C-5AFD3696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895-33B1-42F8-A9BB-EB2FDB42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919-D871-4C73-B54A-0E90D5AC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EFE-BC78-4803-B661-8B2066DB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B4B1-B688-480C-A175-01A0CFAD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539-A782-4534-9478-E00219AD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D46-8F40-438E-BE72-D801B1A7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E2D9-C409-4679-8355-DF46BEEB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0207-E2C7-4494-B59E-31459BEA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9310-4BA2-410D-9977-9F229300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A8B-5DE7-47F5-84AF-EA98E354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847-1781-4E32-B242-764A4AB7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1668-27A9-4401-B35C-5AC1F4CA6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SHA User Gu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 11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P Prefix Detail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ipdetail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332240" cy="529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934320" y="3124080"/>
            <a:ext cx="761760" cy="76212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3581280"/>
            <a:ext cx="266724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819520"/>
            <a:ext cx="4038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ly, the user can click on the main window to select the IP prefix space to focu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55627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modes are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19920" y="5181480"/>
            <a:ext cx="144756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mode3D" descr=""/>
          <p:cNvPicPr/>
          <p:nvPr/>
        </p:nvPicPr>
        <p:blipFill>
          <a:blip r:embed="rId2"/>
          <a:stretch/>
        </p:blipFill>
        <p:spPr>
          <a:xfrm>
            <a:off x="2895480" y="1447920"/>
            <a:ext cx="1917720" cy="2000160"/>
          </a:xfrm>
          <a:prstGeom prst="rect">
            <a:avLst/>
          </a:prstGeom>
          <a:ln w="0">
            <a:noFill/>
          </a:ln>
        </p:spPr>
      </p:pic>
      <p:pic>
        <p:nvPicPr>
          <p:cNvPr id="120" name="modeFishEye" descr=""/>
          <p:cNvPicPr/>
          <p:nvPr/>
        </p:nvPicPr>
        <p:blipFill>
          <a:blip r:embed="rId3"/>
          <a:stretch/>
        </p:blipFill>
        <p:spPr>
          <a:xfrm>
            <a:off x="2971800" y="3505320"/>
            <a:ext cx="1752480" cy="1722240"/>
          </a:xfrm>
          <a:prstGeom prst="rect">
            <a:avLst/>
          </a:prstGeom>
          <a:ln w="0">
            <a:noFill/>
          </a:ln>
        </p:spPr>
      </p:pic>
      <p:pic>
        <p:nvPicPr>
          <p:cNvPr id="121" name="modeRegion" descr=""/>
          <p:cNvPicPr/>
          <p:nvPr/>
        </p:nvPicPr>
        <p:blipFill>
          <a:blip r:embed="rId4"/>
          <a:stretch/>
        </p:blipFill>
        <p:spPr>
          <a:xfrm>
            <a:off x="533520" y="3352680"/>
            <a:ext cx="2066760" cy="1895760"/>
          </a:xfrm>
          <a:prstGeom prst="rect">
            <a:avLst/>
          </a:prstGeom>
          <a:ln w="0">
            <a:noFill/>
          </a:ln>
        </p:spPr>
      </p:pic>
      <p:pic>
        <p:nvPicPr>
          <p:cNvPr id="122" name="noasdetail" descr=""/>
          <p:cNvPicPr/>
          <p:nvPr/>
        </p:nvPicPr>
        <p:blipFill>
          <a:blip r:embed="rId5"/>
          <a:stretch/>
        </p:blipFill>
        <p:spPr>
          <a:xfrm>
            <a:off x="709560" y="1371600"/>
            <a:ext cx="1957320" cy="1924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578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D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3D mode, vertical axis represents AS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and drag left button on BGPViz window to rotate the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mode3D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017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-By-Region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: A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: RIPE N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: AP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tom: restri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modeRegion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4956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sh-Eye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-click on window to focus fish-eye lens on reg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modeFishEye" descr=""/>
          <p:cNvPicPr/>
          <p:nvPr/>
        </p:nvPicPr>
        <p:blipFill>
          <a:blip r:embed="rId1"/>
          <a:stretch/>
        </p:blipFill>
        <p:spPr>
          <a:xfrm>
            <a:off x="4572000" y="1971720"/>
            <a:ext cx="3962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437920"/>
            <a:ext cx="2667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oas_screen" descr=""/>
          <p:cNvPicPr/>
          <p:nvPr/>
        </p:nvPicPr>
        <p:blipFill>
          <a:blip r:embed="rId1"/>
          <a:stretch/>
        </p:blipFill>
        <p:spPr>
          <a:xfrm>
            <a:off x="2971800" y="1143000"/>
            <a:ext cx="5638680" cy="4879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762120"/>
            <a:ext cx="6094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68580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840" y="2700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Viz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98800" y="1936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GPViz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gpviz" descr=""/>
          <p:cNvPicPr/>
          <p:nvPr/>
        </p:nvPicPr>
        <p:blipFill>
          <a:blip r:embed="rId1"/>
          <a:stretch/>
        </p:blipFill>
        <p:spPr>
          <a:xfrm>
            <a:off x="4800600" y="762120"/>
            <a:ext cx="3952800" cy="5648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4419720" y="213372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3657600"/>
            <a:ext cx="457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440" y="350532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685800"/>
            <a:ext cx="4419360" cy="1523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2960" y="12193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Prefix Detail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1720" y="5562720"/>
            <a:ext cx="335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count of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 AS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962520" y="56386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60199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lay Option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43600" y="685800"/>
            <a:ext cx="1447920" cy="1676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00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IP Prefix detail” option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ggle the displa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Prefix Detail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320040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Show IP-AS lines” option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ggle the displa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AS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952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ther options are to toggle the display of the different Origin AS chang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8006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52880" y="1219320"/>
            <a:ext cx="121932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876920" y="1904760"/>
            <a:ext cx="129528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Detail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19920" y="2133720"/>
            <a:ext cx="144756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noasdetail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2516040" cy="2469960"/>
          </a:xfrm>
          <a:prstGeom prst="rect">
            <a:avLst/>
          </a:prstGeom>
          <a:ln w="0">
            <a:noFill/>
          </a:ln>
        </p:spPr>
      </p:pic>
      <p:pic>
        <p:nvPicPr>
          <p:cNvPr id="72" name="asdetail" descr=""/>
          <p:cNvPicPr/>
          <p:nvPr/>
        </p:nvPicPr>
        <p:blipFill>
          <a:blip r:embed="rId3"/>
          <a:stretch/>
        </p:blipFill>
        <p:spPr>
          <a:xfrm>
            <a:off x="304920" y="3925800"/>
            <a:ext cx="2514600" cy="2471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740320" y="251460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not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5410080"/>
            <a:ext cx="457200" cy="381240"/>
          </a:xfrm>
          <a:prstGeom prst="ellipse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1400" y="472428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par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line to high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61760" y="4952880"/>
            <a:ext cx="1981080" cy="60984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18288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Detail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19920" y="2133720"/>
            <a:ext cx="144756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asdetail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2514600" cy="2471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" y="2898720"/>
            <a:ext cx="457200" cy="380880"/>
          </a:xfrm>
          <a:prstGeom prst="ellipse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1040" y="220968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61760" y="2441520"/>
            <a:ext cx="1981080" cy="60948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1905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2120" y="2666880"/>
            <a:ext cx="36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ackground not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sbackground" descr=""/>
          <p:cNvPicPr/>
          <p:nvPr/>
        </p:nvPicPr>
        <p:blipFill>
          <a:blip r:embed="rId3"/>
          <a:stretch/>
        </p:blipFill>
        <p:spPr>
          <a:xfrm>
            <a:off x="304920" y="3963960"/>
            <a:ext cx="2514600" cy="2470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41040" y="464832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2480" y="502920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ackground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ides AS detail shown of the part of AS-line clicked by the user, the user is also allowed to enter AS number to focus 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ser is also allowed to enter ASes to disregard. Lines to these ASes will not be dra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Focus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2666880"/>
            <a:ext cx="144792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257800" y="1904760"/>
            <a:ext cx="1981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762120"/>
            <a:ext cx="144792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57800" y="3352680"/>
            <a:ext cx="19051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day’s data shown as yellow, previous days shown as br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shows current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date shows date of first previou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window = current date – begin d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 available to play, stop, advance and go back one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imation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19920" y="2743200"/>
            <a:ext cx="144756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114300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IP Prefix Detail Windows are prov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which one to ed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IP prefix and mask for detail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. for 198.41.0.0/16, enter 198 in Part 1, 41 in Part 2, and 16 in M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“Set” to effect chan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 available to show IP-AS lines in the detail wind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P Prefix Detail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315200" y="3733920"/>
            <a:ext cx="144792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2286000"/>
            <a:ext cx="2743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3886200"/>
            <a:ext cx="2438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48006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54864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8:35:30Z</dcterms:created>
  <dc:creator>Soon Tee Teoh</dc:creator>
  <dc:description/>
  <dc:language>en-US</dc:language>
  <cp:lastModifiedBy>Soon Tee Teoh</cp:lastModifiedBy>
  <dcterms:modified xsi:type="dcterms:W3CDTF">2002-11-11T21:56:22Z</dcterms:modified>
  <cp:revision>11</cp:revision>
  <dc:subject/>
  <dc:title>ELISHA User Guide</dc:title>
</cp:coreProperties>
</file>