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92D-413E-4F1B-9AE1-58D016E6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913-C943-429B-9B48-CD838E63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754-F487-4CC2-87EA-8F183FAF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B50-DD6F-447C-89A4-6D6BC123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187-C836-4AC7-8068-0001D6C2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1DA-F714-454B-88CC-B2653698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853-949D-42C9-8E16-8CBAFB8D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917-598D-450B-8E2E-C8880311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0BD-3B9F-46B4-ACB4-19D8A637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810-0D12-4C65-B544-AFBB9991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ABA-1473-49A5-A737-0857AA6D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ED9-AD99-4E5B-A40D-8CB5D90A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3C48-7F72-4126-B4D5-51EFF3661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SHA User Gu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11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Prefix Detai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ipdetail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332240" cy="529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934320" y="3124080"/>
            <a:ext cx="761760" cy="76212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3581280"/>
            <a:ext cx="266724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819520"/>
            <a:ext cx="4038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the user can click on the main window to select the IP prefix space to focu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55627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modes are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9920" y="5181480"/>
            <a:ext cx="144756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mode3D" descr=""/>
          <p:cNvPicPr/>
          <p:nvPr/>
        </p:nvPicPr>
        <p:blipFill>
          <a:blip r:embed="rId2"/>
          <a:stretch/>
        </p:blipFill>
        <p:spPr>
          <a:xfrm>
            <a:off x="2895480" y="1447920"/>
            <a:ext cx="1917720" cy="2000160"/>
          </a:xfrm>
          <a:prstGeom prst="rect">
            <a:avLst/>
          </a:prstGeom>
          <a:ln w="0">
            <a:noFill/>
          </a:ln>
        </p:spPr>
      </p:pic>
      <p:pic>
        <p:nvPicPr>
          <p:cNvPr id="120" name="modeFishEye" descr=""/>
          <p:cNvPicPr/>
          <p:nvPr/>
        </p:nvPicPr>
        <p:blipFill>
          <a:blip r:embed="rId3"/>
          <a:stretch/>
        </p:blipFill>
        <p:spPr>
          <a:xfrm>
            <a:off x="2971800" y="3505320"/>
            <a:ext cx="1752480" cy="1722240"/>
          </a:xfrm>
          <a:prstGeom prst="rect">
            <a:avLst/>
          </a:prstGeom>
          <a:ln w="0">
            <a:noFill/>
          </a:ln>
        </p:spPr>
      </p:pic>
      <p:pic>
        <p:nvPicPr>
          <p:cNvPr id="121" name="modeRegion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2066760" cy="1895760"/>
          </a:xfrm>
          <a:prstGeom prst="rect">
            <a:avLst/>
          </a:prstGeom>
          <a:ln w="0">
            <a:noFill/>
          </a:ln>
        </p:spPr>
      </p:pic>
      <p:pic>
        <p:nvPicPr>
          <p:cNvPr id="122" name="noasdetail" descr=""/>
          <p:cNvPicPr/>
          <p:nvPr/>
        </p:nvPicPr>
        <p:blipFill>
          <a:blip r:embed="rId5"/>
          <a:stretch/>
        </p:blipFill>
        <p:spPr>
          <a:xfrm>
            <a:off x="709560" y="1371600"/>
            <a:ext cx="1957320" cy="1924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57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D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3D mode, vertical axis represents AS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and drag left button on BGPViz window to rotate the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ode3D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017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-By-Region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: A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: RIPE N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: AP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om: restri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modeRegion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4956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sh-Eye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-click on window to focus fish-eye lens on reg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modeFishEye" descr=""/>
          <p:cNvPicPr/>
          <p:nvPr/>
        </p:nvPicPr>
        <p:blipFill>
          <a:blip r:embed="rId1"/>
          <a:stretch/>
        </p:blipFill>
        <p:spPr>
          <a:xfrm>
            <a:off x="4572000" y="1971720"/>
            <a:ext cx="3962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437920"/>
            <a:ext cx="2667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oas_screen" descr=""/>
          <p:cNvPicPr/>
          <p:nvPr/>
        </p:nvPicPr>
        <p:blipFill>
          <a:blip r:embed="rId1"/>
          <a:stretch/>
        </p:blipFill>
        <p:spPr>
          <a:xfrm>
            <a:off x="2971800" y="1143000"/>
            <a:ext cx="5638680" cy="4879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762120"/>
            <a:ext cx="6094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68580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840" y="2700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Viz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98800" y="1936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GPViz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gpviz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3952800" cy="5648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4419720" y="213372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657600"/>
            <a:ext cx="457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440" y="35053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85800"/>
            <a:ext cx="4419360" cy="1523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2960" y="12193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Prefix Detai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1720" y="5562720"/>
            <a:ext cx="335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count of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 AS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962520" y="56386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60199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lay Option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43600" y="685800"/>
            <a:ext cx="1447920" cy="1676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00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IP Prefix detail” optio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ggle the displa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Prefix Detai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20040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how IP-AS lines” optio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ggle the displa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AS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952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ther options are to toggle the display of the different Origin AS chang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006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1219320"/>
            <a:ext cx="121932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876920" y="1904760"/>
            <a:ext cx="129528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Detail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19920" y="2133720"/>
            <a:ext cx="144756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noasdetail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516040" cy="2469960"/>
          </a:xfrm>
          <a:prstGeom prst="rect">
            <a:avLst/>
          </a:prstGeom>
          <a:ln w="0">
            <a:noFill/>
          </a:ln>
        </p:spPr>
      </p:pic>
      <p:pic>
        <p:nvPicPr>
          <p:cNvPr id="72" name="asdetail" descr=""/>
          <p:cNvPicPr/>
          <p:nvPr/>
        </p:nvPicPr>
        <p:blipFill>
          <a:blip r:embed="rId3"/>
          <a:stretch/>
        </p:blipFill>
        <p:spPr>
          <a:xfrm>
            <a:off x="304920" y="3925800"/>
            <a:ext cx="2514600" cy="247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40320" y="25146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not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410080"/>
            <a:ext cx="457200" cy="38124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1400" y="472428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par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line to high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61760" y="4952880"/>
            <a:ext cx="1981080" cy="6098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18288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Detail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19920" y="2133720"/>
            <a:ext cx="144756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sdetail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514600" cy="2471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2898720"/>
            <a:ext cx="457200" cy="38088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1040" y="220968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61760" y="2441520"/>
            <a:ext cx="1981080" cy="60948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2120" y="2666880"/>
            <a:ext cx="36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ackground not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sbackground" descr=""/>
          <p:cNvPicPr/>
          <p:nvPr/>
        </p:nvPicPr>
        <p:blipFill>
          <a:blip r:embed="rId3"/>
          <a:stretch/>
        </p:blipFill>
        <p:spPr>
          <a:xfrm>
            <a:off x="304920" y="3963960"/>
            <a:ext cx="2514600" cy="2470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41040" y="464832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2480" y="50292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ackground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ides AS detail shown of the part of AS-line clicked by the user, the user is also allowed to enter AS number to focus 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r is also allowed to enter ASes to disregard. Lines to these ASes will not be dra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Focus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2666880"/>
            <a:ext cx="144792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257800" y="1904760"/>
            <a:ext cx="19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762120"/>
            <a:ext cx="144792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57800" y="3352680"/>
            <a:ext cx="19051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day’s data shown as yellow, previous days shown as br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shows current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date shows date of first previou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window = current date – begin d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 available to play, stop, advance and go back one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imation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19920" y="2743200"/>
            <a:ext cx="144756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114300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IP Prefix Detail Windows are prov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which one to 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IP prefix and mask for detail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. for 198.41.0.0/16, enter 198 in Part 1, 41 in Part 2, and 16 in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“Set” to effec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 available to show IP-AS lines in the detail wind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Prefix Detai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315200" y="3733920"/>
            <a:ext cx="144792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2286000"/>
            <a:ext cx="2743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3886200"/>
            <a:ext cx="2438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4800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54864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8:35:30Z</dcterms:created>
  <dc:creator>Soon Tee Teoh</dc:creator>
  <dc:description/>
  <dc:language>en-US</dc:language>
  <cp:lastModifiedBy>Soon Tee Teoh</cp:lastModifiedBy>
  <dcterms:modified xsi:type="dcterms:W3CDTF">2002-11-11T21:56:22Z</dcterms:modified>
  <cp:revision>11</cp:revision>
  <dc:subject/>
  <dc:title>ELISHA User Guide</dc:title>
</cp:coreProperties>
</file>