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CC8C-80FF-4221-AD16-92729421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83C-ED0E-49B2-9CD3-103BE533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106-3BC3-4C37-AEF7-88213706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3D7-2E8D-4C31-9659-DF6A9C58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15E-0F50-4FCC-AD5F-E79132E3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226-341C-466E-B9ED-362AEFCC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1E5-ACBB-4BBE-B481-528DD46F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5D7-D71B-4A3F-9817-719FE8D6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877-E37A-4EBA-8BB6-93748F90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ABE-B504-4C40-81C7-2BDACFF2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5631-9834-4955-B64B-09F6264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0B3-B8A2-49B6-9778-9D18015F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CA5A-A890-46B7-A2AD-C44B05987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SHA User Gu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ipdetail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332240" cy="529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934320" y="3124080"/>
            <a:ext cx="761760" cy="76212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581280"/>
            <a:ext cx="26672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819520"/>
            <a:ext cx="4038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the user can click on the main window to select the IP prefix space to foc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55627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des are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9920" y="5181480"/>
            <a:ext cx="144756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mode3D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191772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modeFishEye" descr=""/>
          <p:cNvPicPr/>
          <p:nvPr/>
        </p:nvPicPr>
        <p:blipFill>
          <a:blip r:embed="rId3"/>
          <a:stretch/>
        </p:blipFill>
        <p:spPr>
          <a:xfrm>
            <a:off x="2971800" y="3505320"/>
            <a:ext cx="1752480" cy="1722240"/>
          </a:xfrm>
          <a:prstGeom prst="rect">
            <a:avLst/>
          </a:prstGeom>
          <a:ln w="0">
            <a:noFill/>
          </a:ln>
        </p:spPr>
      </p:pic>
      <p:pic>
        <p:nvPicPr>
          <p:cNvPr id="121" name="modeRegion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20667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noasdetail" descr=""/>
          <p:cNvPicPr/>
          <p:nvPr/>
        </p:nvPicPr>
        <p:blipFill>
          <a:blip r:embed="rId5"/>
          <a:stretch/>
        </p:blipFill>
        <p:spPr>
          <a:xfrm>
            <a:off x="709560" y="1371600"/>
            <a:ext cx="1957320" cy="1924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57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D mode, vertical axis represents AS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and drag left button on BGPViz window to rotate th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ode3D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1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-By-Region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: 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: RIPE N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: AP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: restri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modeRegion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sh-Eye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-click on window to focus fish-eye lens on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deFishEye" descr=""/>
          <p:cNvPicPr/>
          <p:nvPr/>
        </p:nvPicPr>
        <p:blipFill>
          <a:blip r:embed="rId1"/>
          <a:stretch/>
        </p:blipFill>
        <p:spPr>
          <a:xfrm>
            <a:off x="4572000" y="1971720"/>
            <a:ext cx="3962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2667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oas_screen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5638680" cy="4879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762120"/>
            <a:ext cx="6094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68580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840" y="2700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98800" y="19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gpviz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3952800" cy="5648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4419720" y="213372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65760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440" y="35053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85800"/>
            <a:ext cx="4419360" cy="1523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2960" y="12193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1720" y="5562720"/>
            <a:ext cx="33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count of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A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962520" y="5638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60199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Option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685800"/>
            <a:ext cx="1447920" cy="1676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00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IP Prefix detail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2004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how IP-AS lines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A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952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options are to toggle the display of the different Origin AS chan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006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1219320"/>
            <a:ext cx="12193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76920" y="1904760"/>
            <a:ext cx="129528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o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6040" cy="2469960"/>
          </a:xfrm>
          <a:prstGeom prst="rect">
            <a:avLst/>
          </a:prstGeom>
          <a:ln w="0">
            <a:noFill/>
          </a:ln>
        </p:spPr>
      </p:pic>
      <p:pic>
        <p:nvPicPr>
          <p:cNvPr id="72" name="asdetail" descr=""/>
          <p:cNvPicPr/>
          <p:nvPr/>
        </p:nvPicPr>
        <p:blipFill>
          <a:blip r:embed="rId3"/>
          <a:stretch/>
        </p:blipFill>
        <p:spPr>
          <a:xfrm>
            <a:off x="304920" y="392580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0320" y="25146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410080"/>
            <a:ext cx="457200" cy="38124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1400" y="472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par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line to 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1760" y="4952880"/>
            <a:ext cx="1981080" cy="6098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18288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2898720"/>
            <a:ext cx="457200" cy="38088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1040" y="22096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1760" y="2441520"/>
            <a:ext cx="1981080" cy="6094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2120" y="2666880"/>
            <a:ext cx="36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sbackground" descr=""/>
          <p:cNvPicPr/>
          <p:nvPr/>
        </p:nvPicPr>
        <p:blipFill>
          <a:blip r:embed="rId3"/>
          <a:stretch/>
        </p:blipFill>
        <p:spPr>
          <a:xfrm>
            <a:off x="304920" y="3963960"/>
            <a:ext cx="2514600" cy="24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1040" y="46483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2480" y="50292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ides AS detail shown of the part of AS-line clicked by the user, the user is also allowed to enter AS number to focus 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is also allowed to enter ASes to disregard. Lines to these ASes will not be dra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Focu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2666880"/>
            <a:ext cx="144792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57800" y="190476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7621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57800" y="33526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ay’s data shown as yellow, previous days shown as b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shows curren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date shows date of first previou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window = current date – begin d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play, stop, advance and go back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tio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19920" y="2743200"/>
            <a:ext cx="144756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14300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P Prefix Detail Windows are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which one to 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P prefix and mask for detail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for 198.41.0.0/16, enter 198 in Part 1, 41 in Part 2, and 16 in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“Set” to effec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show IP-AS lines in the detail 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15200" y="37339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2286000"/>
            <a:ext cx="2743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886200"/>
            <a:ext cx="2438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800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5486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8:35:30Z</dcterms:created>
  <dc:creator>Soon Tee Teoh</dc:creator>
  <dc:description/>
  <dc:language>en-US</dc:language>
  <cp:lastModifiedBy>Soon Tee Teoh</cp:lastModifiedBy>
  <dcterms:modified xsi:type="dcterms:W3CDTF">2002-11-11T21:56:22Z</dcterms:modified>
  <cp:revision>11</cp:revision>
  <dc:subject/>
  <dc:title>ELISHA User Guide</dc:title>
</cp:coreProperties>
</file>