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4B6-D2B8-42F7-B5D7-E2F07932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36B-6F72-429B-9A90-1121F352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6A1-C82C-49DA-BE14-CF9696B2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102-5379-454C-9C97-774ECD88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C9F-B6DB-4BDD-A9BE-3BF05606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820-4381-4B03-AB0B-0DD6D9E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075-4D46-4095-A84B-81067A01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C29-67DB-463E-8DE6-BB662E1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ED4-7B77-476D-A76B-04CC37CD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9F3-040E-406A-9B4C-DE6D841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83D-EFC8-4F10-BAAE-D9C158C2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ECE-1630-4CE3-8B8B-11A6D0D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6F09-5514-40CB-8844-7E39F437D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 AS Change Visualiz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Man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on Tee Te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California,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creen7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5486400" cy="356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2819520" y="3809880"/>
            <a:ext cx="761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2958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ASes will be listed in the console, together with the count of the number of OASCs of each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 AS 3128 has 24 CSS changes on this 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creen4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6781320" y="914400"/>
            <a:ext cx="76212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04280" y="38088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 out (ie. do not show) any lines to this AS, -1 invali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53080" y="2971800"/>
            <a:ext cx="9907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04280" y="228600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show any lines for the OASC for the Disregar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04280" y="3868560"/>
            <a:ext cx="1539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egard related” means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an OASC change for prefix 198.24.0.0/8 from AS 701 to AS 2914, 86 and 2, and AS 86 is highlighted, then the lines from 198.24.0.0/8 to AS 701, 2914 and 2 will not be show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creen4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2209320" y="609480"/>
            <a:ext cx="533412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04280" y="30492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S” shown in solid lines, “To AS” shown in broken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04280" y="198108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ress the “From AS” or the “To 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04280" y="32004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show the lines to the highlighted 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257800" y="24382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257800" y="2590560"/>
            <a:ext cx="228600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04280" y="4419720"/>
            <a:ext cx="1539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ress all related” means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an OASC change for prefix 198.24.0.0/8 from AS 701 to AS 2914, 86 and 2, and AS 86 is highlighted, then the lines from 198.24.0.0/8 to AS 701, 2914 and 2 will not be show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creen5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04280" y="246708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 non-highlighted lines in darker sh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8680" y="2209320"/>
            <a:ext cx="198144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creen6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04280" y="55911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57240" y="3200400"/>
            <a:ext cx="38862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10080" y="5867280"/>
            <a:ext cx="236232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04280" y="297180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 click and move mouse to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creen2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2438280"/>
            <a:ext cx="1447920" cy="2057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95880" y="34290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2209680"/>
            <a:ext cx="15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date to show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YYYMMD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mat. Enter current date in “Date” fi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iles are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ssed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s are ASCII text files, even though they are not nam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t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processed data i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malydata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eprocess new data, r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process.ex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ualization progra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sualize.ex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igin A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-tree arrangement of IP prefi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quadtree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igin A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ines surrounding IP prefix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quadtree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90920" y="6629400"/>
            <a:ext cx="350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666520" y="26668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igin A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-IP Line for each Origin AS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quadtree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6629400"/>
            <a:ext cx="350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666520" y="26668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334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62320" y="5409720"/>
            <a:ext cx="1523880" cy="685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reen1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838080"/>
            <a:ext cx="762120" cy="99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1447920"/>
            <a:ext cx="22100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4280" y="14130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which of 8 types of OASCs to disp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048120" y="3048120"/>
            <a:ext cx="449568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038120" y="6172200"/>
            <a:ext cx="35053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04280" y="349236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ay in yellow, previous days orange through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4280" y="6033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creen2" descr=""/>
          <p:cNvPicPr/>
          <p:nvPr/>
        </p:nvPicPr>
        <p:blipFill>
          <a:blip r:embed="rId1"/>
          <a:stretch/>
        </p:blipFill>
        <p:spPr>
          <a:xfrm>
            <a:off x="0" y="1440"/>
            <a:ext cx="746748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flipV="1">
            <a:off x="5791320" y="685800"/>
            <a:ext cx="1828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9144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o draw the l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creen3" descr=""/>
          <p:cNvPicPr/>
          <p:nvPr/>
        </p:nvPicPr>
        <p:blipFill>
          <a:blip r:embed="rId1"/>
          <a:stretch/>
        </p:blipFill>
        <p:spPr>
          <a:xfrm>
            <a:off x="0" y="1440"/>
            <a:ext cx="746748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04280" y="79056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o show zoom windows into the IP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638680" y="533520"/>
            <a:ext cx="19814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971800" y="4343040"/>
            <a:ext cx="4572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4280" y="566748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click in IP square to zoom i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04280" y="251316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zoom window to edit (0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933960" y="3200400"/>
            <a:ext cx="6094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857640" y="3962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4280" y="371628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 IP prefix to zoom, example is 198.24.0.0/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9040" y="36939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4880" y="38466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creen4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04280" y="231444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draw AS lines related to highlighted 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638680" y="2057400"/>
            <a:ext cx="19814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04280" y="383868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highlight by clicking on AS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52280" y="2742840"/>
            <a:ext cx="746784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04280" y="79056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 AS by entering AS number, -1 invali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81320" y="609120"/>
            <a:ext cx="838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on Tee Teoh</cp:lastModifiedBy>
  <dcterms:modified xsi:type="dcterms:W3CDTF">2004-10-21T23:33:33Z</dcterms:modified>
  <cp:revision>3</cp:revision>
  <dc:subject/>
  <dc:title>PowerPoint Presentation</dc:title>
</cp:coreProperties>
</file>