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2D79-BC88-4139-A5F3-F6A351D3D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2992-F5FC-4C7D-9A3C-BC92BBE4F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6533-D32D-4593-9383-44FFB36EE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54FA-D0A9-4B3A-9D96-71440A4BC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133D-06B7-4867-A3D4-F5CC54499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C8C4-17DD-496D-B64A-FC5D3D7CD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6788-F4AE-486C-AA27-64FB0EC39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091E-65BC-4F74-B47F-73DD5ED93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D146-62EA-463C-97CC-AE455187A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15EE-752D-4399-8FE1-3C5A0A25D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C730-F595-4E0D-954F-F2A1F5ED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30C0-B56B-4FE3-B405-82AC3B77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C12F1-3D46-4160-9961-4343F993AE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igin AS Change Visualization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r Man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on Tee Teo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artment of Computer Sc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California, Dav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screen7" descr=""/>
          <p:cNvPicPr/>
          <p:nvPr/>
        </p:nvPicPr>
        <p:blipFill>
          <a:blip r:embed="rId1"/>
          <a:stretch/>
        </p:blipFill>
        <p:spPr>
          <a:xfrm>
            <a:off x="3657600" y="685800"/>
            <a:ext cx="5486400" cy="3564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 flipV="1">
            <a:off x="2819520" y="3809880"/>
            <a:ext cx="76176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4295880"/>
            <a:ext cx="3962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ghlighted ASes will be listed in the console, together with the count of the number of OASCs of each typ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 example, AS 3128 has 24 CSS changes on this da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screen4" descr=""/>
          <p:cNvPicPr/>
          <p:nvPr/>
        </p:nvPicPr>
        <p:blipFill>
          <a:blip r:embed="rId1"/>
          <a:stretch/>
        </p:blipFill>
        <p:spPr>
          <a:xfrm>
            <a:off x="0" y="0"/>
            <a:ext cx="7467480" cy="68644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 flipH="1">
            <a:off x="6781320" y="914400"/>
            <a:ext cx="762120" cy="1600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04280" y="380880"/>
            <a:ext cx="1539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lter out (ie. do not show) any lines to this AS, -1 invalid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6553080" y="2971800"/>
            <a:ext cx="99072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04280" y="2286000"/>
            <a:ext cx="1539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 not show any lines for the OASC for the Disregard 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04280" y="3868560"/>
            <a:ext cx="15397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regard related” means th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 is an OASC change for prefix 198.24.0.0/8 from AS 701 to AS 2914, 86 and 2, and AS 86 is highlighted, then the lines from 198.24.0.0/8 to AS 701, 2914 and 2 will not be show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screen4" descr=""/>
          <p:cNvPicPr/>
          <p:nvPr/>
        </p:nvPicPr>
        <p:blipFill>
          <a:blip r:embed="rId1"/>
          <a:stretch/>
        </p:blipFill>
        <p:spPr>
          <a:xfrm>
            <a:off x="0" y="0"/>
            <a:ext cx="7467480" cy="68644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 flipH="1">
            <a:off x="2209320" y="609480"/>
            <a:ext cx="5334120" cy="1600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04280" y="304920"/>
            <a:ext cx="1539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AS” shown in solid lines, “To AS” shown in broken 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04280" y="1981080"/>
            <a:ext cx="153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ppress the “From AS” or the “To A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04280" y="3200400"/>
            <a:ext cx="153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ly show the lines to the highlighted 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5257800" y="2438280"/>
            <a:ext cx="2286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5257800" y="2590560"/>
            <a:ext cx="228600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04280" y="4419720"/>
            <a:ext cx="15397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ress all related” means th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 is an OASC change for prefix 198.24.0.0/8 from AS 701 to AS 2914, 86 and 2, and AS 86 is highlighted, then the lines from 198.24.0.0/8 to AS 701, 2914 and 2 will not be show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screen5" descr=""/>
          <p:cNvPicPr/>
          <p:nvPr/>
        </p:nvPicPr>
        <p:blipFill>
          <a:blip r:embed="rId1"/>
          <a:stretch/>
        </p:blipFill>
        <p:spPr>
          <a:xfrm>
            <a:off x="0" y="-6480"/>
            <a:ext cx="7467480" cy="68644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04280" y="2467080"/>
            <a:ext cx="153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raw non-highlighted lines in darker sh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5638680" y="2209320"/>
            <a:ext cx="198144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screen6" descr=""/>
          <p:cNvPicPr/>
          <p:nvPr/>
        </p:nvPicPr>
        <p:blipFill>
          <a:blip r:embed="rId1"/>
          <a:stretch/>
        </p:blipFill>
        <p:spPr>
          <a:xfrm>
            <a:off x="0" y="-6480"/>
            <a:ext cx="7467480" cy="68644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7604280" y="5591160"/>
            <a:ext cx="153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D m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3657240" y="3200400"/>
            <a:ext cx="388620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10080" y="5867280"/>
            <a:ext cx="236232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04280" y="2971800"/>
            <a:ext cx="153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ft click and move mouse to ro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screen2" descr=""/>
          <p:cNvPicPr/>
          <p:nvPr/>
        </p:nvPicPr>
        <p:blipFill>
          <a:blip r:embed="rId1"/>
          <a:stretch/>
        </p:blipFill>
        <p:spPr>
          <a:xfrm>
            <a:off x="0" y="0"/>
            <a:ext cx="7467480" cy="68565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572000" y="2438280"/>
            <a:ext cx="1447920" cy="2057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6095880" y="3429000"/>
            <a:ext cx="1447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04280" y="2209680"/>
            <a:ext cx="1539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ect date to show in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YYYMMD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ormat. Enter current date in “Date” fiel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files are in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cessed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irect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iles are ASCII text files, even though they are not named wit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tx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tens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eprocessed data is in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nomalydata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irect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preprocess new data, ru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eprocess.ex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visualization program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isualize.ex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sualizing Origin AS Chan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d-tree arrangement of IP prefix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quadtree" descr=""/>
          <p:cNvPicPr/>
          <p:nvPr/>
        </p:nvPicPr>
        <p:blipFill>
          <a:blip r:embed="rId1"/>
          <a:stretch/>
        </p:blipFill>
        <p:spPr>
          <a:xfrm>
            <a:off x="2590920" y="2819520"/>
            <a:ext cx="373356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sualizing Origin AS Chan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Lines surrounding IP prefix squ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quadtree" descr=""/>
          <p:cNvPicPr/>
          <p:nvPr/>
        </p:nvPicPr>
        <p:blipFill>
          <a:blip r:embed="rId1"/>
          <a:stretch/>
        </p:blipFill>
        <p:spPr>
          <a:xfrm>
            <a:off x="2590920" y="2895480"/>
            <a:ext cx="3504960" cy="3505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362320" y="2895480"/>
            <a:ext cx="0" cy="3505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324480" y="2895480"/>
            <a:ext cx="0" cy="3505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590920" y="6629400"/>
            <a:ext cx="3504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666520" y="2666880"/>
            <a:ext cx="3429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sualizing Origin AS Chan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-IP Line for each Origin AS 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quadtree" descr=""/>
          <p:cNvPicPr/>
          <p:nvPr/>
        </p:nvPicPr>
        <p:blipFill>
          <a:blip r:embed="rId1"/>
          <a:stretch/>
        </p:blipFill>
        <p:spPr>
          <a:xfrm>
            <a:off x="2590920" y="2895480"/>
            <a:ext cx="3504960" cy="3505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362320" y="2895480"/>
            <a:ext cx="0" cy="3505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324480" y="2895480"/>
            <a:ext cx="0" cy="3505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590920" y="6629400"/>
            <a:ext cx="3504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666520" y="2666880"/>
            <a:ext cx="3429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86200" y="5334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2362320" y="5409720"/>
            <a:ext cx="1523880" cy="685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screen1" descr=""/>
          <p:cNvPicPr/>
          <p:nvPr/>
        </p:nvPicPr>
        <p:blipFill>
          <a:blip r:embed="rId1"/>
          <a:stretch/>
        </p:blipFill>
        <p:spPr>
          <a:xfrm>
            <a:off x="0" y="-6480"/>
            <a:ext cx="7467480" cy="68644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572000" y="838080"/>
            <a:ext cx="762120" cy="9907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5409720" y="1447920"/>
            <a:ext cx="221004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04280" y="1413000"/>
            <a:ext cx="153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oose which of 8 types of OASCs to displa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3048120" y="3048120"/>
            <a:ext cx="4495680" cy="76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4038120" y="6172200"/>
            <a:ext cx="350532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04280" y="3492360"/>
            <a:ext cx="1539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rrent day in yellow, previous days orange through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04280" y="6033960"/>
            <a:ext cx="153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ily 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screen2" descr=""/>
          <p:cNvPicPr/>
          <p:nvPr/>
        </p:nvPicPr>
        <p:blipFill>
          <a:blip r:embed="rId1"/>
          <a:stretch/>
        </p:blipFill>
        <p:spPr>
          <a:xfrm>
            <a:off x="0" y="1440"/>
            <a:ext cx="7467480" cy="68565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 flipH="1" flipV="1">
            <a:off x="5791320" y="685800"/>
            <a:ext cx="182880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04280" y="914400"/>
            <a:ext cx="153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oose to draw the lin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screen3" descr=""/>
          <p:cNvPicPr/>
          <p:nvPr/>
        </p:nvPicPr>
        <p:blipFill>
          <a:blip r:embed="rId1"/>
          <a:stretch/>
        </p:blipFill>
        <p:spPr>
          <a:xfrm>
            <a:off x="0" y="1440"/>
            <a:ext cx="7467480" cy="68565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7604280" y="790560"/>
            <a:ext cx="153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oose to show zoom windows into the IP squ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5638680" y="533520"/>
            <a:ext cx="198144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2971800" y="4343040"/>
            <a:ext cx="4572000" cy="1523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04280" y="5667480"/>
            <a:ext cx="153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 click in IP square to zoom in re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04280" y="2513160"/>
            <a:ext cx="153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oose zoom window to edit (0-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933960" y="3200400"/>
            <a:ext cx="60948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857640" y="396252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04280" y="3716280"/>
            <a:ext cx="1539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ter IP prefix to zoom, example is 198.24.0.0/8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39040" y="369396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554880" y="384660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screen4" descr=""/>
          <p:cNvPicPr/>
          <p:nvPr/>
        </p:nvPicPr>
        <p:blipFill>
          <a:blip r:embed="rId1"/>
          <a:stretch/>
        </p:blipFill>
        <p:spPr>
          <a:xfrm>
            <a:off x="0" y="-6480"/>
            <a:ext cx="7467480" cy="68644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7604280" y="2314440"/>
            <a:ext cx="153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ly draw AS lines related to highlighted 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5638680" y="2057400"/>
            <a:ext cx="198144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604280" y="3838680"/>
            <a:ext cx="153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 highlight by clicking on AS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152280" y="2742840"/>
            <a:ext cx="7467840" cy="1219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04280" y="790560"/>
            <a:ext cx="153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ghlight AS by entering AS number, -1 invalid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 flipV="1">
            <a:off x="6781320" y="609120"/>
            <a:ext cx="83844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oon Tee Teoh</cp:lastModifiedBy>
  <dcterms:modified xsi:type="dcterms:W3CDTF">2004-10-21T23:33:33Z</dcterms:modified>
  <cp:revision>3</cp:revision>
  <dc:subject/>
  <dc:title>PowerPoint Presentation</dc:title>
</cp:coreProperties>
</file>